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444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31320" y="12697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444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31320" y="3883320"/>
            <a:ext cx="279684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6868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8833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69720"/>
            <a:ext cx="42390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3320"/>
            <a:ext cx="8686800" cy="23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9720"/>
            <a:ext cx="868680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-385920">
              <a:lnSpc>
                <a:spcPct val="94000"/>
              </a:lnSpc>
              <a:spcBef>
                <a:spcPts val="1500"/>
              </a:spcBef>
              <a:buClr>
                <a:srgbClr val="e1e1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4440">
              <a:lnSpc>
                <a:spcPct val="94000"/>
              </a:lnSpc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4000"/>
              </a:lnSpc>
              <a:spcBef>
                <a:spcPts val="1500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0318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51240" indent="-228600">
              <a:lnSpc>
                <a:spcPct val="94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74680" y="1352520"/>
            <a:ext cx="7631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629400"/>
            <a:ext cx="152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TMM YUV-R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6320"/>
            <a:ext cx="41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6F2-56A8-430C-B00A-1D4268B109C6}" type="slidenum">
              <a:rPr b="0" i="1" lang="en-US" sz="1400" spc="-1" strike="noStrike">
                <a:solidFill>
                  <a:srgbClr val="000000"/>
                </a:solidFill>
                <a:latin typeface="GillSans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64680"/>
            <a:ext cx="6858000" cy="18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4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9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07920" algn="ctr">
              <a:lnSpc>
                <a:spcPct val="87000"/>
              </a:lnSpc>
              <a:spcBef>
                <a:spcPts val="249"/>
              </a:spcBef>
              <a:buClr>
                <a:srgbClr val="ffff00"/>
              </a:buClr>
              <a:buSzPct val="69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4316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7720" indent="304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7720" indent="304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Design Technology for </a:t>
            </a:r>
            <a:br>
              <a:rPr sz="4000"/>
            </a:br>
            <a:r>
              <a:rPr b="0" lang="en-US" sz="4000" spc="-1" strike="noStrike">
                <a:solidFill>
                  <a:srgbClr val="0419de"/>
                </a:solidFill>
                <a:latin typeface="Arial"/>
                <a:ea typeface="Times New Roman"/>
              </a:rPr>
              <a:t>Multi-Media Systems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 (5P600/TD5102)</a:t>
            </a: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dc0a00"/>
                </a:solidFill>
                <a:latin typeface="Arial"/>
              </a:rPr>
              <a:t>Lab.exercise PMM</a:t>
            </a:r>
            <a:endParaRPr b="0" lang="en-US" sz="48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3886200"/>
            <a:ext cx="5562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nk Corpora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University Eindh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I / NUS Singap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Vertic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17600" y="3768840"/>
            <a:ext cx="767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row=0; row &lt; MBROWS*8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  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0(Cr420, col, row-3, row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422[2*row+1][col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olV1(Cr420, col, row-2, row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17524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2666880"/>
            <a:ext cx="609480" cy="6098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5238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20574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2438280"/>
            <a:ext cx="91440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9907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43828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1981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2895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1676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483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Vertical filtering for even colum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137160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V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8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l, int start_row, int stop_r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3, -16, 67, 227, -32, 7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row+i &lt;= stop_row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wrap(startRow+i,MBROWS*8)][col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ap and Clip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9000" y="1061280"/>
            <a:ext cx="6581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rap (int coord, int max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lt; 0) return 0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coord &gt;= max) return max-1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coo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ip(int value) {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lt;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value &gt; 2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25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turn (unsigned char) val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Horizontal Upsampling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9200" y="358128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8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  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0(Cr422, row,col-3,col+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2*col+1]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volH1(Cr422, row,col-2,col+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762120"/>
            <a:ext cx="60948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60948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9907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1447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2209680"/>
            <a:ext cx="1066680" cy="8384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86400" y="2743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1680" y="14479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68580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22096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81880" y="1295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819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Horizontal filtering for even row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4960" y="1371600"/>
            <a:ext cx="8410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onvolH0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value[MBROWS*16][MBCOLS*8]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row, int start_col, int stop_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0, sum=128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oeffs[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{5, -21, 70, 228, -37, 11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; start_col+i &lt;= stop_col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+= value[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wrap(start_col+i,MBROWS*8)]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effs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clip(sum&gt;&gt;8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8954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44197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00200" y="14479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2895480"/>
            <a:ext cx="121896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0481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20574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9520" y="3505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19520" y="35049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67080" y="3505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4440" y="594252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RGB[MBROWS*16][MBCOLS*16]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Color conversion code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918000"/>
            <a:ext cx="8294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row=0; row &lt; MBROWS*16; row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 (col=0; col &lt; MBCOLS*16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0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dc0a00"/>
                </a:solidFill>
                <a:latin typeface="Courier New"/>
              </a:rPr>
              <a:t>ycrcb2r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1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08000"/>
                </a:solidFill>
                <a:latin typeface="Courier New"/>
              </a:rPr>
              <a:t>ycrcb2g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GB[row][col][2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2400" spc="-1" strike="noStrike">
                <a:solidFill>
                  <a:srgbClr val="0419de"/>
                </a:solidFill>
                <a:latin typeface="Courier New"/>
              </a:rPr>
              <a:t>ycrcb2b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    Y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r444[row][col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b444[row][col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Color convertion function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1338840"/>
            <a:ext cx="86868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r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rv = 10459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y + crv*(cb-128)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crcb2g (int y, int cr, int c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u = 2567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 int cgv = 532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 76309 * (y - 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clip(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-cgu*(cr-128)-cgv*(cb-128)+32768)&gt;&gt;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Write RGB image in PPM form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366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ILE* 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o.ppm", "w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rintf(fp, "%c%c\n%d %d\n%d\n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'P', '6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BCOLS*16, MBROWS*1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25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write(RGB, sizeof(unsigned char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*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Application:</a:t>
            </a:r>
            <a:r>
              <a:rPr b="0" lang="en-US" sz="4400" spc="-1" strike="noStrike">
                <a:solidFill>
                  <a:srgbClr val="0419de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419de"/>
                </a:solidFill>
                <a:latin typeface="Arial"/>
              </a:rPr>
              <a:t>YUV-RGB color conversion</a:t>
            </a:r>
            <a:br>
              <a:rPr sz="4800"/>
            </a:br>
            <a:r>
              <a:rPr b="0" lang="en-US" sz="4800" spc="-1" strike="noStrike">
                <a:solidFill>
                  <a:srgbClr val="0419de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419de"/>
                </a:solidFill>
                <a:latin typeface="Arial"/>
              </a:rPr>
              <a:t>part of a Digital Video Decoder)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7560" y="2895480"/>
            <a:ext cx="48006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s from Lode Nachtergae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4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C Leuv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dig.video coder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05320" y="2209680"/>
            <a:ext cx="1218960" cy="2895840"/>
            <a:chOff x="3505320" y="2209680"/>
            <a:chExt cx="1218960" cy="2895840"/>
          </a:xfrm>
        </p:grpSpPr>
        <p:sp>
          <p:nvSpPr>
            <p:cNvPr id="85" name=""/>
            <p:cNvSpPr/>
            <p:nvPr/>
          </p:nvSpPr>
          <p:spPr>
            <a:xfrm>
              <a:off x="3505320" y="2209680"/>
              <a:ext cx="1218960" cy="121932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3657600"/>
              <a:ext cx="609120" cy="60948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4495680"/>
              <a:ext cx="609120" cy="6098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523880" y="3124080"/>
            <a:ext cx="1600200" cy="106704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733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080" y="3124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71800" y="28195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7339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42900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3429000"/>
            <a:ext cx="2057400" cy="10666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7339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362320"/>
            <a:ext cx="4572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114800" y="3962520"/>
            <a:ext cx="10666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Functionality of color conversion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98144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utine upsamples color information (Cr and Cb), that is decoded by a video decoder to the size of the luminance information (Y). Then the luminance and chrominance information are transformed to a red, green and blue value for dis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19de"/>
                </a:solidFill>
                <a:latin typeface="Arial"/>
              </a:rPr>
              <a:t>Driver: YCrCb4:2:0 to RGB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362320"/>
            <a:ext cx="121896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6483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5562720"/>
            <a:ext cx="609480" cy="6094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4197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952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334120"/>
            <a:ext cx="91440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867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886200"/>
            <a:ext cx="60984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334120"/>
            <a:ext cx="60984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8769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11480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5720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334120"/>
            <a:ext cx="106704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867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572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53341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362320"/>
            <a:ext cx="1219320" cy="12189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809880"/>
            <a:ext cx="1219320" cy="1219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962520"/>
            <a:ext cx="1066680" cy="838080"/>
          </a:xfrm>
          <a:prstGeom prst="cube">
            <a:avLst>
              <a:gd name="adj" fmla="val 25000"/>
            </a:avLst>
          </a:prstGeom>
          <a:solidFill>
            <a:srgbClr val="ff96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971800"/>
            <a:ext cx="4572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441936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36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2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65800" y="1523880"/>
            <a:ext cx="10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Cr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4: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380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219320"/>
            <a:ext cx="152280" cy="152280"/>
          </a:xfrm>
          <a:prstGeom prst="rect">
            <a:avLst/>
          </a:prstGeom>
          <a:solidFill>
            <a:srgbClr val="ff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76312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Y, Cr420 and Cb420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0[MBROWS*8 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4120" y="1219320"/>
            <a:ext cx="1218960" cy="1218960"/>
            <a:chOff x="5334120" y="1219320"/>
            <a:chExt cx="1218960" cy="1218960"/>
          </a:xfrm>
        </p:grpSpPr>
        <p:grpSp>
          <p:nvGrpSpPr>
            <p:cNvPr id="137" name=""/>
            <p:cNvGrpSpPr/>
            <p:nvPr/>
          </p:nvGrpSpPr>
          <p:grpSpPr>
            <a:xfrm>
              <a:off x="5334120" y="1219320"/>
              <a:ext cx="1218960" cy="1218960"/>
              <a:chOff x="5334120" y="1219320"/>
              <a:chExt cx="1218960" cy="1218960"/>
            </a:xfrm>
          </p:grpSpPr>
          <p:sp>
            <p:nvSpPr>
              <p:cNvPr id="138" name=""/>
              <p:cNvSpPr/>
              <p:nvPr/>
            </p:nvSpPr>
            <p:spPr>
              <a:xfrm>
                <a:off x="533412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864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386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913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36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958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4852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008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3412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412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3412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412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33412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412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627520" y="15231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43800" y="1219320"/>
            <a:ext cx="1218960" cy="1218960"/>
            <a:chOff x="7543800" y="1219320"/>
            <a:chExt cx="1218960" cy="1218960"/>
          </a:xfrm>
        </p:grpSpPr>
        <p:grpSp>
          <p:nvGrpSpPr>
            <p:cNvPr id="156" name=""/>
            <p:cNvGrpSpPr/>
            <p:nvPr/>
          </p:nvGrpSpPr>
          <p:grpSpPr>
            <a:xfrm>
              <a:off x="7543800" y="1219320"/>
              <a:ext cx="1218960" cy="1218960"/>
              <a:chOff x="7543800" y="1219320"/>
              <a:chExt cx="1218960" cy="1218960"/>
            </a:xfrm>
          </p:grpSpPr>
          <p:sp>
            <p:nvSpPr>
              <p:cNvPr id="157" name=""/>
              <p:cNvSpPr/>
              <p:nvPr/>
            </p:nvSpPr>
            <p:spPr>
              <a:xfrm>
                <a:off x="7543800" y="1219320"/>
                <a:ext cx="121896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60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8483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010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532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055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5820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61048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62760" y="121932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43800" y="13716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543800" y="15238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3800" y="16761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43800" y="1828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4380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3800" y="21333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43800" y="22860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849440" y="15231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342200" y="2437200"/>
            <a:ext cx="1037520" cy="915120"/>
            <a:chOff x="7342200" y="2437200"/>
            <a:chExt cx="1037520" cy="915120"/>
          </a:xfrm>
        </p:grpSpPr>
        <p:sp>
          <p:nvSpPr>
            <p:cNvPr id="175" name=""/>
            <p:cNvSpPr/>
            <p:nvPr/>
          </p:nvSpPr>
          <p:spPr>
            <a:xfrm>
              <a:off x="7472520" y="243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0800" y="2971800"/>
              <a:ext cx="152280" cy="152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7080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23080" y="281916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72272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42200" y="2895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7080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2308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23080" y="3124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951680" y="3123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51680" y="2743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51680" y="2971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29800" y="281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1120" y="2513160"/>
            <a:ext cx="1283400" cy="1067760"/>
            <a:chOff x="4191120" y="2513160"/>
            <a:chExt cx="1283400" cy="1067760"/>
          </a:xfrm>
        </p:grpSpPr>
        <p:sp>
          <p:nvSpPr>
            <p:cNvPr id="189" name=""/>
            <p:cNvSpPr/>
            <p:nvPr/>
          </p:nvSpPr>
          <p:spPr>
            <a:xfrm>
              <a:off x="4345920" y="25131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19720" y="304776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24640" y="28954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724280" y="2971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2971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97144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64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4640" y="3352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953240" y="33526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3240" y="2819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324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5400" y="2970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9720" y="3200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360" y="3047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45160" y="990720"/>
            <a:ext cx="3045960" cy="2666880"/>
            <a:chOff x="1145160" y="990720"/>
            <a:chExt cx="3045960" cy="2666880"/>
          </a:xfrm>
        </p:grpSpPr>
        <p:sp>
          <p:nvSpPr>
            <p:cNvPr id="205" name=""/>
            <p:cNvSpPr/>
            <p:nvPr/>
          </p:nvSpPr>
          <p:spPr>
            <a:xfrm>
              <a:off x="1752480" y="1219320"/>
              <a:ext cx="304920" cy="304560"/>
            </a:xfrm>
            <a:prstGeom prst="rect">
              <a:avLst/>
            </a:prstGeom>
            <a:solidFill>
              <a:srgbClr val="ff9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752480" y="1219320"/>
              <a:ext cx="2438640" cy="2438280"/>
              <a:chOff x="1752480" y="1219320"/>
              <a:chExt cx="2438640" cy="2438280"/>
            </a:xfrm>
          </p:grpSpPr>
          <p:sp>
            <p:nvSpPr>
              <p:cNvPr id="207" name=""/>
              <p:cNvSpPr/>
              <p:nvPr/>
            </p:nvSpPr>
            <p:spPr>
              <a:xfrm>
                <a:off x="1752480" y="1219320"/>
                <a:ext cx="243864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74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623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668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718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767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8128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91120" y="121932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52480" y="15238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52480" y="18288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52480" y="21337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52480" y="24382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52480" y="2743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52480" y="304812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752480" y="335268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43040" y="2042640"/>
              <a:ext cx="485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2388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02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5160" y="2056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06668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930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1066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4120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1219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76312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0880" y="684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5984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6480" y="1522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22 and Cb422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22[MBROWS*16][MBCOLS*8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0560" y="2208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2743200"/>
            <a:ext cx="1526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9076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2666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048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19720" y="304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3960" y="2589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9800" y="684720"/>
            <a:ext cx="1826280" cy="2972880"/>
            <a:chOff x="5869800" y="684720"/>
            <a:chExt cx="1826280" cy="2972880"/>
          </a:xfrm>
        </p:grpSpPr>
        <p:sp>
          <p:nvSpPr>
            <p:cNvPr id="264" name=""/>
            <p:cNvSpPr/>
            <p:nvPr/>
          </p:nvSpPr>
          <p:spPr>
            <a:xfrm>
              <a:off x="647712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29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816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34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6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388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438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608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712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7712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7712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9400" y="152352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608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420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29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86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388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5438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9608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712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712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4852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980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7712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831320" y="684720"/>
            <a:ext cx="1826280" cy="2972880"/>
            <a:chOff x="1831320" y="684720"/>
            <a:chExt cx="1826280" cy="2972880"/>
          </a:xfrm>
        </p:grpSpPr>
        <p:sp>
          <p:nvSpPr>
            <p:cNvPr id="298" name=""/>
            <p:cNvSpPr/>
            <p:nvPr/>
          </p:nvSpPr>
          <p:spPr>
            <a:xfrm>
              <a:off x="2438640" y="1219320"/>
              <a:ext cx="1218960" cy="243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909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432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958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81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04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304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0532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12193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38640" y="24382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640" y="15238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38640" y="18288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8640" y="2133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32040" y="152352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8640" y="1066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5720" y="684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09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432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958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81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004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304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0532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57600" y="24382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8640" y="2743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640" y="30481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38640" y="33526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10040" y="1219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1320" y="2208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0" y="1219320"/>
              <a:ext cx="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0040" y="365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640" y="990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Size of Cr444 and Cb444 images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87360" y="382896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// CIF:18*16=288 rows and 22*16=352 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ROWS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define MBCOLS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signed char Y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r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signed char Cb444[MBROWS*16][MBCOLS*1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429080" y="2360880"/>
            <a:ext cx="1283400" cy="1067760"/>
            <a:chOff x="4429080" y="2360880"/>
            <a:chExt cx="1283400" cy="1067760"/>
          </a:xfrm>
        </p:grpSpPr>
        <p:sp>
          <p:nvSpPr>
            <p:cNvPr id="334" name=""/>
            <p:cNvSpPr/>
            <p:nvPr/>
          </p:nvSpPr>
          <p:spPr>
            <a:xfrm>
              <a:off x="4583880" y="2360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57680" y="2895480"/>
              <a:ext cx="30492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5768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2600" y="2743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6224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29080" y="28191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57680" y="2819160"/>
              <a:ext cx="3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2600" y="2895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62600" y="3200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191200" y="32004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91200" y="26668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9120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3360" y="2817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57680" y="304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0320" y="2895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383480" y="532440"/>
            <a:ext cx="3045600" cy="2972880"/>
            <a:chOff x="1383480" y="532440"/>
            <a:chExt cx="3045600" cy="2972880"/>
          </a:xfrm>
        </p:grpSpPr>
        <p:grpSp>
          <p:nvGrpSpPr>
            <p:cNvPr id="350" name=""/>
            <p:cNvGrpSpPr/>
            <p:nvPr/>
          </p:nvGrpSpPr>
          <p:grpSpPr>
            <a:xfrm>
              <a:off x="1990800" y="1066680"/>
              <a:ext cx="2438280" cy="2438280"/>
              <a:chOff x="1990800" y="1066680"/>
              <a:chExt cx="2438280" cy="2438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99080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295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600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048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97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46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1924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241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290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9080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9080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9080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9080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9080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080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9080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92080" y="1890360"/>
              <a:ext cx="663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6220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6220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816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8348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908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2908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080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3104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574600" y="532440"/>
            <a:ext cx="3045600" cy="2972880"/>
            <a:chOff x="5574600" y="532440"/>
            <a:chExt cx="3045600" cy="2972880"/>
          </a:xfrm>
        </p:grpSpPr>
        <p:grpSp>
          <p:nvGrpSpPr>
            <p:cNvPr id="377" name=""/>
            <p:cNvGrpSpPr/>
            <p:nvPr/>
          </p:nvGrpSpPr>
          <p:grpSpPr>
            <a:xfrm>
              <a:off x="6181920" y="1066680"/>
              <a:ext cx="2438280" cy="2438280"/>
              <a:chOff x="6181920" y="1066680"/>
              <a:chExt cx="2438280" cy="2438280"/>
            </a:xfrm>
          </p:grpSpPr>
          <p:sp>
            <p:nvSpPr>
              <p:cNvPr id="378" name=""/>
              <p:cNvSpPr/>
              <p:nvPr/>
            </p:nvSpPr>
            <p:spPr>
              <a:xfrm>
                <a:off x="6181920" y="1066680"/>
                <a:ext cx="2438280" cy="243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864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914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0959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4008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058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1036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1528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620200" y="1066680"/>
                <a:ext cx="0" cy="243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81920" y="13712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81920" y="16761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81920" y="19810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181920" y="22856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81920" y="259056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81920" y="289548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81920" y="320004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832080" y="1890360"/>
              <a:ext cx="766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53320" y="1066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5332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29280" y="1066680"/>
              <a:ext cx="0" cy="24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4600" y="190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192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20200" y="838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81920" y="9144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2160" y="532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419de"/>
                </a:solidFill>
                <a:latin typeface="Arial"/>
              </a:rPr>
              <a:t>Read Input Data</a:t>
            </a:r>
            <a:endParaRPr b="1" lang="en-US" sz="4000" spc="-1" strike="noStrike">
              <a:solidFill>
                <a:srgbClr val="0419d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8200" y="1283400"/>
            <a:ext cx="841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y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Y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16)*(MBCOLS*16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u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f ((fp = fopen("akicif.v", "rb"))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read(Cr420, sizeof(unsigned ch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MBROWS*8)*(MBCOLS*8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8T13:01:36Z</dcterms:created>
  <dc:creator>nachterg</dc:creator>
  <dc:description/>
  <dc:language>en-US</dc:language>
  <cp:lastModifiedBy>Henk Corporaal</cp:lastModifiedBy>
  <dcterms:modified xsi:type="dcterms:W3CDTF">2003-06-05T13:42:47Z</dcterms:modified>
  <cp:revision>17</cp:revision>
  <dc:subject/>
  <dc:title>Data Transfer and Storage Exploration (DTSE) for color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imecwww/~nachterg</vt:lpwstr>
  </property>
  <property fmtid="{D5CDD505-2E9C-101B-9397-08002B2CF9AE}" pid="9" name="LinkColor">
    <vt:r8>16711782</vt:r8>
  </property>
  <property fmtid="{D5CDD505-2E9C-101B-9397-08002B2CF9AE}" pid="10" name="MailAddress">
    <vt:lpwstr>nachterg@imec.be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Z:\ycrcb</vt:lpwstr>
  </property>
  <property fmtid="{D5CDD505-2E9C-101B-9397-08002B2CF9AE}" pid="14" name="ScreenSize">
    <vt:r8>4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