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24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946760" cy="37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0000" y="4698720"/>
            <a:ext cx="4943520" cy="445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9924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240" y="939924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076B6C0-8558-4395-B493-BC60F916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01800" y="7430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0000" y="4698720"/>
            <a:ext cx="494352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TSE is based on analysis of data transfers from/to main mem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Reduce/eliminate redundant transf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(1) don’t fetch data that you do not need and do not produce data that you will not further use (2) eliminate parts of arrays that are never read/written (dead array access elimination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Introduce data localit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such that data consumption and production are close together in time and data can be stored locally in FG memo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Data reus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exploit memory hierarch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store data that are frequently accessed in smaller memories closer to the data-paths: less power in smaller memories and less power in transf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void N-port memori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bad for power and area. You can usually design a memory architecture with (many) 1-port memories that still meets the cycle-budget constraints for the memory accesses. It happens only very rarely that a solution with an N-port memory is superior to one that contains a number of smaller 1-port memor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1800" y="7430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0000" y="4698720"/>
            <a:ext cx="4943520" cy="445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on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regularity of acc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you have two loops that produce and consume e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’s data and that they do this in a star pattern as sh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ways means that a buffer is needed. It is much better to reverse one of the loops to get a regular access pattern as shown below, in which we may suffice with a small buffer or maybe even a point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500120" y="5687640"/>
            <a:ext cx="59868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499760" y="5687640"/>
            <a:ext cx="59868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388880" y="5879160"/>
            <a:ext cx="82008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407960" y="5890320"/>
            <a:ext cx="82008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47840" y="7585200"/>
            <a:ext cx="8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47840" y="7748640"/>
            <a:ext cx="8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840" y="7913520"/>
            <a:ext cx="8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47840" y="8080200"/>
            <a:ext cx="8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47840" y="5854680"/>
            <a:ext cx="76320" cy="8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47840" y="6018120"/>
            <a:ext cx="76320" cy="82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00120" y="6183360"/>
            <a:ext cx="73080" cy="82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2480" y="6183360"/>
            <a:ext cx="76320" cy="8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71880" y="6018120"/>
            <a:ext cx="75960" cy="82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71880" y="5854680"/>
            <a:ext cx="75960" cy="81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98800" y="5607000"/>
            <a:ext cx="73080" cy="81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00120" y="5688000"/>
            <a:ext cx="73080" cy="82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47840" y="7502400"/>
            <a:ext cx="76320" cy="82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98800" y="7585200"/>
            <a:ext cx="73080" cy="8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47840" y="7667640"/>
            <a:ext cx="76320" cy="8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47840" y="7831080"/>
            <a:ext cx="76320" cy="82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47840" y="7997760"/>
            <a:ext cx="76320" cy="82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98800" y="7748640"/>
            <a:ext cx="73080" cy="8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98800" y="7913520"/>
            <a:ext cx="73080" cy="8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98800" y="8080200"/>
            <a:ext cx="73080" cy="82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AE5-4211-4438-80B5-156E30E8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44D-B4D4-490D-9EA8-0C210A70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7F0-4495-4EBD-8513-8845E6F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34D-AA3A-4AB4-8857-F80D65D6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DCA-86BB-4D9A-B699-4CE4B55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670-9E29-4218-8477-57B69E9E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B64-3392-4DDA-9E02-DF1668B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D1B-ACF1-4208-999D-598C6FE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951-447D-47AB-9347-D979402D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EE8-BFC7-4D2C-9EEE-138CE72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877-07B5-401E-BD65-CB96B43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930-6ABD-4056-8ED2-E3EADEA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A254-A839-400A-802D-C4C2AF8CB842}" type="datetime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629040"/>
            <a:ext cx="6858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879-A1EF-4842-9B05-3CEED2B960B2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Processor Architectures and Program Mapp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KK70   TU/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nk Corpor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Me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77320" y="2438280"/>
            <a:ext cx="55893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b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ata Memory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vity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obal loop transformation steps applied to cavity detec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1760" y="1752120"/>
            <a:ext cx="8440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ll loop dimensions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ize loop travers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y Y and X loop inter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89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order of input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loop folding and global mer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loop folding and global mer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89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, global scope reg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89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complete locality for main signals (ar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DF2-93A3-418C-BBF8-002594C09D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8516B-C3FD-4695-A9C7-56E3DA0BE9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rther hin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not merge all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val calculation is blocking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dvanced data flow transformations you can get rid of this maxval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2D6-AD3F-4188-B7D4-921E7320E7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35FC6-6356-4BAE-8EF7-75A8A8195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enters Cavity Detecto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73240" y="1380960"/>
            <a:ext cx="1001520" cy="1122120"/>
            <a:chOff x="1173240" y="1380960"/>
            <a:chExt cx="1001520" cy="1122120"/>
          </a:xfrm>
        </p:grpSpPr>
        <p:sp>
          <p:nvSpPr>
            <p:cNvPr id="53" name=""/>
            <p:cNvSpPr/>
            <p:nvPr/>
          </p:nvSpPr>
          <p:spPr>
            <a:xfrm>
              <a:off x="1173240" y="1380960"/>
              <a:ext cx="1001520" cy="7081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ca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266840" y="2086920"/>
              <a:ext cx="793800" cy="415800"/>
            </a:xfrm>
            <a:custGeom>
              <a:avLst/>
              <a:gdLst>
                <a:gd name="textAreaLeft" fmla="*/ 174600 w 793800"/>
                <a:gd name="textAreaRight" fmla="*/ 619200 w 79380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20920" y="1378080"/>
            <a:ext cx="1108080" cy="731880"/>
          </a:xfrm>
          <a:prstGeom prst="roundRect">
            <a:avLst>
              <a:gd name="adj" fmla="val 9329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9600" y="142560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79600" y="145908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9600" y="149220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2568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79600" y="155880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9600" y="159228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9600" y="162576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79600" y="165888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169236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9600" y="172548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79600" y="175896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9600" y="179244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79600" y="182556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9600" y="185904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79600" y="189216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9600" y="192564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79600" y="195912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9600" y="199224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79600" y="202572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9600" y="2058840"/>
            <a:ext cx="9954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52720" y="3027240"/>
            <a:ext cx="1408320" cy="6541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44840" y="2157480"/>
            <a:ext cx="423720" cy="7700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71200" y="2110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495680"/>
            <a:ext cx="1407960" cy="924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6880" y="3728880"/>
            <a:ext cx="608040" cy="714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9320" y="3129480"/>
            <a:ext cx="16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mage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5410080"/>
            <a:ext cx="608040" cy="714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6095880"/>
            <a:ext cx="1407960" cy="6541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4160" y="6094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mage_ou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433600" cy="18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EF9-D728-4F60-B521-3BDE1FA73F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3683B-9197-4825-89AE-849AA36124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80120" y="2960640"/>
            <a:ext cx="2408400" cy="2743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lication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dom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Tomography in medical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 detection in CT-s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dark regions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iv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cavity in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80120" y="2955960"/>
            <a:ext cx="2430360" cy="275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35640" y="541008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d news for owner of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3675600">
            <a:off x="6400440" y="4114440"/>
            <a:ext cx="304920" cy="2133720"/>
          </a:xfrm>
          <a:prstGeom prst="upArrow">
            <a:avLst>
              <a:gd name="adj1" fmla="val 50000"/>
              <a:gd name="adj2" fmla="val 1749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CF4-91F8-4163-A4F5-EEAED62EDC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906CC-8A81-4B85-AC5F-FEC2A157027E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3124080"/>
            <a:ext cx="85345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95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(conceptual) C code for th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920" indent="-216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unctions: image_in[N x M] -&gt; image_out[N x 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920" indent="-216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value of pixel depends on its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920" indent="-216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pixels read from backgroun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920" indent="-216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10 lines of C code (ignoring file I/O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920" indent="-216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with N x M = 640 x 40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2920" indent="-216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forward implementation: 6 image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768320"/>
            <a:ext cx="10666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768320"/>
            <a:ext cx="10670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r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endCxn id="95" idx="1"/>
          </p:cNvCxnSpPr>
          <p:nvPr/>
        </p:nvCxnSpPr>
        <p:spPr>
          <a:xfrm>
            <a:off x="457200" y="2149200"/>
            <a:ext cx="38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467320" y="1768320"/>
            <a:ext cx="10666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1768320"/>
            <a:ext cx="10670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625320"/>
            <a:ext cx="10666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81400" y="1768320"/>
            <a:ext cx="10666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5" idx="3"/>
            <a:endCxn id="100" idx="1"/>
          </p:cNvCxnSpPr>
          <p:nvPr/>
        </p:nvCxnSpPr>
        <p:spPr>
          <a:xfrm>
            <a:off x="1904760" y="2149200"/>
            <a:ext cx="477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0" idx="3"/>
            <a:endCxn id="94" idx="1"/>
          </p:cNvCxnSpPr>
          <p:nvPr/>
        </p:nvCxnSpPr>
        <p:spPr>
          <a:xfrm>
            <a:off x="3447720" y="2149200"/>
            <a:ext cx="477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97" idx="1"/>
          </p:cNvCxnSpPr>
          <p:nvPr/>
        </p:nvCxnSpPr>
        <p:spPr>
          <a:xfrm>
            <a:off x="4990680" y="2149200"/>
            <a:ext cx="477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7" idx="3"/>
            <a:endCxn id="98" idx="1"/>
          </p:cNvCxnSpPr>
          <p:nvPr/>
        </p:nvCxnSpPr>
        <p:spPr>
          <a:xfrm>
            <a:off x="6533640" y="2149200"/>
            <a:ext cx="477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endCxn id="99" idx="1"/>
          </p:cNvCxnSpPr>
          <p:nvPr/>
        </p:nvCxnSpPr>
        <p:spPr>
          <a:xfrm flipH="1" flipV="1" rot="5400000">
            <a:off x="4762080" y="1424880"/>
            <a:ext cx="1143720" cy="305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9" idx="2"/>
          </p:cNvCxnSpPr>
          <p:nvPr/>
        </p:nvCxnSpPr>
        <p:spPr>
          <a:xfrm>
            <a:off x="6019560" y="1387440"/>
            <a:ext cx="5400" cy="38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8" idx="3"/>
            <a:endCxn id="108" idx="3"/>
          </p:cNvCxnSpPr>
          <p:nvPr/>
        </p:nvCxnSpPr>
        <p:spPr>
          <a:xfrm>
            <a:off x="8077320" y="2149200"/>
            <a:ext cx="227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9" name=""/>
          <p:cNvGrpSpPr/>
          <p:nvPr/>
        </p:nvGrpSpPr>
        <p:grpSpPr>
          <a:xfrm>
            <a:off x="456840" y="1767960"/>
            <a:ext cx="8001000" cy="762120"/>
            <a:chOff x="456840" y="1767960"/>
            <a:chExt cx="8001000" cy="762120"/>
          </a:xfrm>
        </p:grpSpPr>
        <p:sp>
          <p:nvSpPr>
            <p:cNvPr id="110" name=""/>
            <p:cNvSpPr/>
            <p:nvPr/>
          </p:nvSpPr>
          <p:spPr>
            <a:xfrm rot="10800000">
              <a:off x="456840" y="1767960"/>
              <a:ext cx="1522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2057040" y="1767960"/>
              <a:ext cx="1522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3581280" y="1767960"/>
              <a:ext cx="15264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105160" y="1767960"/>
              <a:ext cx="1522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6654600" y="1767960"/>
              <a:ext cx="1522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8305560" y="1767960"/>
              <a:ext cx="15228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626-59E6-4689-972B-87173FE2B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FFD0-D323-4784-A7E8-7CFD83A68280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vity: mai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5040" y="1219320"/>
            <a:ext cx="7861680" cy="520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sz="1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int argc, char* 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ic int in_image[N][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ic int g_image[N][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ic int c_image[N][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ic int out_image[N][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lock_t starttime, end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read_image(IN_NAME,in_im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rttime=c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GaussBlur(in_image, g_image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cc00"/>
                </a:solidFill>
                <a:latin typeface="Courier New"/>
              </a:rPr>
              <a:t>// processing star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omputeEdges(g_image, c_im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DetectRoots(c_image, out_image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Courier New"/>
              </a:rPr>
              <a:t>// uses reverse and max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endtime=c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write_image(OUT_NAME,out_im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printf("  Elapsed time is %f s\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1.0*(endtime-starttime) / CLOCKS_PER_SE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6C9-9ECD-45CD-9C6F-250C7D1C97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EF0FD-474D-439C-AC15-08F14FDE3A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MM (data mem. mgt.) principl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2970360"/>
            <a:ext cx="3962520" cy="1218960"/>
            <a:chOff x="228600" y="2970360"/>
            <a:chExt cx="3962520" cy="1218960"/>
          </a:xfrm>
        </p:grpSpPr>
        <p:sp>
          <p:nvSpPr>
            <p:cNvPr id="119" name=""/>
            <p:cNvSpPr/>
            <p:nvPr/>
          </p:nvSpPr>
          <p:spPr>
            <a:xfrm>
              <a:off x="228600" y="2970360"/>
              <a:ext cx="3962520" cy="1218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920" y="3046320"/>
              <a:ext cx="1828800" cy="106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Arial"/>
                </a:rPr>
                <a:t>Processor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Arial"/>
                </a:rPr>
                <a:t>Data Pa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3046320"/>
              <a:ext cx="914400" cy="10663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em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3046320"/>
              <a:ext cx="914400" cy="10663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em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2666880"/>
            <a:ext cx="3698640" cy="1751040"/>
            <a:chOff x="4876920" y="2666880"/>
            <a:chExt cx="3698640" cy="1751040"/>
          </a:xfrm>
        </p:grpSpPr>
        <p:sp>
          <p:nvSpPr>
            <p:cNvPr id="124" name=""/>
            <p:cNvSpPr/>
            <p:nvPr/>
          </p:nvSpPr>
          <p:spPr>
            <a:xfrm>
              <a:off x="4876920" y="2666880"/>
              <a:ext cx="3698640" cy="175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94280" y="3046320"/>
              <a:ext cx="1447920" cy="1066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B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Comb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86560" y="2741400"/>
              <a:ext cx="1884240" cy="7621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ocal latch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&amp; bank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6560" y="3579480"/>
              <a:ext cx="1884240" cy="76212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ocal latch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&amp; bank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114800" y="3351240"/>
            <a:ext cx="838080" cy="457200"/>
          </a:xfrm>
          <a:prstGeom prst="leftRightArrow">
            <a:avLst>
              <a:gd name="adj1" fmla="val 50000"/>
              <a:gd name="adj2" fmla="val 3649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83000" y="4022640"/>
            <a:ext cx="3618720" cy="1847160"/>
            <a:chOff x="783000" y="4022640"/>
            <a:chExt cx="3618720" cy="1847160"/>
          </a:xfrm>
        </p:grpSpPr>
        <p:sp>
          <p:nvSpPr>
            <p:cNvPr id="130" name=""/>
            <p:cNvSpPr/>
            <p:nvPr/>
          </p:nvSpPr>
          <p:spPr>
            <a:xfrm>
              <a:off x="1828800" y="4022640"/>
              <a:ext cx="304920" cy="1387440"/>
            </a:xfrm>
            <a:prstGeom prst="upArrow">
              <a:avLst>
                <a:gd name="adj1" fmla="val 50000"/>
                <a:gd name="adj2" fmla="val 113754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1840" y="4022640"/>
              <a:ext cx="304560" cy="1387440"/>
            </a:xfrm>
            <a:prstGeom prst="upArrow">
              <a:avLst>
                <a:gd name="adj1" fmla="val 50000"/>
                <a:gd name="adj2" fmla="val 113889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4880" y="4022640"/>
              <a:ext cx="304560" cy="1387440"/>
            </a:xfrm>
            <a:prstGeom prst="upArrow">
              <a:avLst>
                <a:gd name="adj1" fmla="val 50000"/>
                <a:gd name="adj2" fmla="val 113889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000" y="5410080"/>
              <a:ext cx="361872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oit memory 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335560" y="44197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-chip S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2600" y="5562720"/>
            <a:ext cx="36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limited life-tim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9120" y="1828800"/>
            <a:ext cx="6990120" cy="1216440"/>
            <a:chOff x="1149120" y="1828800"/>
            <a:chExt cx="6990120" cy="1216440"/>
          </a:xfrm>
        </p:grpSpPr>
        <p:sp>
          <p:nvSpPr>
            <p:cNvPr id="137" name=""/>
            <p:cNvSpPr/>
            <p:nvPr/>
          </p:nvSpPr>
          <p:spPr>
            <a:xfrm rot="10788600">
              <a:off x="2666520" y="2283840"/>
              <a:ext cx="322560" cy="760680"/>
            </a:xfrm>
            <a:prstGeom prst="upArrow">
              <a:avLst>
                <a:gd name="adj1" fmla="val 50000"/>
                <a:gd name="adj2" fmla="val 58956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9120" y="1828800"/>
              <a:ext cx="699012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oid N-port Memories within real-time constra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51720" y="3525840"/>
            <a:ext cx="5415480" cy="1978920"/>
            <a:chOff x="3051720" y="3525840"/>
            <a:chExt cx="5415480" cy="1978920"/>
          </a:xfrm>
        </p:grpSpPr>
        <p:sp>
          <p:nvSpPr>
            <p:cNvPr id="140" name=""/>
            <p:cNvSpPr/>
            <p:nvPr/>
          </p:nvSpPr>
          <p:spPr>
            <a:xfrm>
              <a:off x="4400640" y="3673440"/>
              <a:ext cx="306360" cy="1371600"/>
            </a:xfrm>
            <a:prstGeom prst="upArrow">
              <a:avLst>
                <a:gd name="adj1" fmla="val 50000"/>
                <a:gd name="adj2" fmla="val 111927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279800">
              <a:off x="3612960" y="3412800"/>
              <a:ext cx="306360" cy="1904760"/>
            </a:xfrm>
            <a:prstGeom prst="upArrow">
              <a:avLst>
                <a:gd name="adj1" fmla="val 50000"/>
                <a:gd name="adj2" fmla="val 155435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08640" y="5045040"/>
              <a:ext cx="395856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duce redundant transf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47480" y="4113360"/>
            <a:ext cx="2568960" cy="1391400"/>
            <a:chOff x="1347480" y="4113360"/>
            <a:chExt cx="2568960" cy="1391400"/>
          </a:xfrm>
        </p:grpSpPr>
        <p:sp>
          <p:nvSpPr>
            <p:cNvPr id="144" name=""/>
            <p:cNvSpPr/>
            <p:nvPr/>
          </p:nvSpPr>
          <p:spPr>
            <a:xfrm>
              <a:off x="1822320" y="4113360"/>
              <a:ext cx="304920" cy="931680"/>
            </a:xfrm>
            <a:prstGeom prst="upArrow">
              <a:avLst>
                <a:gd name="adj1" fmla="val 50000"/>
                <a:gd name="adj2" fmla="val 76387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5360" y="4113360"/>
              <a:ext cx="304920" cy="931680"/>
            </a:xfrm>
            <a:prstGeom prst="upArrow">
              <a:avLst>
                <a:gd name="adj1" fmla="val 50000"/>
                <a:gd name="adj2" fmla="val 76387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8400" y="4113360"/>
              <a:ext cx="304920" cy="931680"/>
            </a:xfrm>
            <a:prstGeom prst="upArrow">
              <a:avLst>
                <a:gd name="adj1" fmla="val 50000"/>
                <a:gd name="adj2" fmla="val 76387"/>
              </a:avLst>
            </a:prstGeom>
            <a:solidFill>
              <a:srgbClr val="b2b2b2">
                <a:alpha val="50000"/>
              </a:srgbClr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47480" y="5045040"/>
              <a:ext cx="256896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roduce Loc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1657800">
            <a:off x="6552720" y="4190760"/>
            <a:ext cx="228600" cy="1523880"/>
          </a:xfrm>
          <a:prstGeom prst="upArrow">
            <a:avLst>
              <a:gd name="adj1" fmla="val 50000"/>
              <a:gd name="adj2" fmla="val 16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8332400">
            <a:off x="4190760" y="3657240"/>
            <a:ext cx="228600" cy="2514600"/>
          </a:xfrm>
          <a:prstGeom prst="upArrow">
            <a:avLst>
              <a:gd name="adj1" fmla="val 50000"/>
              <a:gd name="adj2" fmla="val 27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F9C-65AD-43A5-90B2-B455723CFD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8D3AB-5750-4E42-A7E2-F8EDDB950A34}" type="datetime1">
              <a:rPr lang="en-US"/>
              <a:t>07/30/26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67080" y="685800"/>
            <a:ext cx="2286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295280"/>
            <a:ext cx="5790960" cy="42674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523880"/>
            <a:ext cx="5486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133720"/>
            <a:ext cx="5486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743200"/>
            <a:ext cx="548640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733920"/>
            <a:ext cx="5486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4343400"/>
            <a:ext cx="5486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4952880"/>
            <a:ext cx="5486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MM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4320" y="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760" y="609480"/>
            <a:ext cx="21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2000" y="144792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flow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2057400"/>
            <a:ext cx="32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560" y="2735280"/>
            <a:ext cx="5411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hierarchy layer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79120" y="365760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 budget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6200" y="426708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allocation and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3080" y="487692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8000" y="6338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45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75040" y="5791320"/>
            <a:ext cx="3124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9520" y="571500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9BD-B8FA-4867-B85A-94A44D5FC1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EF927-87B0-4D3F-A222-DC723FBA5D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DMM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379520"/>
            <a:ext cx="838188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code in 3 layers (pa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inlining, Single Assignment form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low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redundant transfers and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and control flow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regularity of accesses and data lo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-use and memory hierarchy layer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en to move which data between memories to meet the cycle budget of the application with 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in which layer to put the arrays (and cop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738-D4F0-435B-BDCB-A01695FA6F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8ED6C-24A6-4EB9-945C-0EBF96E29101}" type="datetime1">
              <a:rPr lang="en-US"/>
              <a:t>07/30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DMM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 memory lay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 budget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memory access constraints for given cycl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allocation and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memories to use, and where to put the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how to combine and put arrays into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optimization on the final C-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KK70 Platform Design                                             H. Corporaal and B. Mes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A81-9088-41E1-A5D8-27E0F9598C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3B45E-2514-4BA5-A333-195A16D495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6:54Z</dcterms:created>
  <dc:creator>henk corporaal</dc:creator>
  <dc:description/>
  <dc:language>en-US</dc:language>
  <cp:lastModifiedBy>Henk Corporaal</cp:lastModifiedBy>
  <dcterms:modified xsi:type="dcterms:W3CDTF">2009-12-17T19:49:20Z</dcterms:modified>
  <cp:revision>67</cp:revision>
  <dc:subject/>
  <dc:title>Design Technology for future Multi-Media Systems </dc:title>
</cp:coreProperties>
</file>