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4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4440">
              <a:lnSpc>
                <a:spcPct val="94000"/>
              </a:lnSpc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4000"/>
              </a:lnSpc>
              <a:spcBef>
                <a:spcPts val="1500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0318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74680" y="1352520"/>
            <a:ext cx="7631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629400"/>
            <a:ext cx="152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TMM YUV-R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6320"/>
            <a:ext cx="41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16FF-7308-484B-AFE7-277B96717B93}" type="slidenum">
              <a:rPr b="0" i="1" lang="en-US" sz="1400" spc="-1" strike="noStrike">
                <a:solidFill>
                  <a:srgbClr val="000000"/>
                </a:solidFill>
                <a:latin typeface="GillSans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64680"/>
            <a:ext cx="6858000" cy="18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Design Technology for </a:t>
            </a:r>
            <a:br>
              <a:rPr sz="4000"/>
            </a:b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Multi-Media Systems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 (5P600/TD5102)</a:t>
            </a: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dc0a00"/>
                </a:solidFill>
                <a:latin typeface="Arial"/>
              </a:rPr>
              <a:t>Lab.exercise PMM</a:t>
            </a:r>
            <a:endParaRPr b="0" lang="en-US" sz="48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3886200"/>
            <a:ext cx="5562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k Corpora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University Eindh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I / NUS Singap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Vertic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0" y="3768840"/>
            <a:ext cx="767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ow=0; row &lt; MBROWS*8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  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0(Cr420, col, row-3, row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+1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1(Cr420, col, row-2, row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7524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26668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5238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2057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24382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9907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43828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895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83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Vertical filtering for even colum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137160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V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8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l, int start_row, int stop_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3, -16, 67, 227, -32, 7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row+i &lt;= stop_row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wrap(startRow+i,MBROWS*8)][col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ap and Clip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9000" y="106128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rap (int coord, int max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lt; 0) return 0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gt;= max) return max-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ip(int value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lt;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gt; 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25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Horizont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9200" y="358128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  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0(Cr422, row,col-3,col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+1]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1(Cr422, row,col-2,col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762120"/>
            <a:ext cx="60948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60948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9907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2209680"/>
            <a:ext cx="106668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68580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22096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1295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819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Horizontal filtering for even row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4960" y="1371600"/>
            <a:ext cx="841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H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16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row, int start_col, int stop_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{5, -21, 70, 228, -37, 11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col+i &lt;= stop_col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wrap(start_col+i,MBROWS*8)]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8954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44197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14479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28954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0481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20574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19520" y="35049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67080" y="3505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4440" y="594252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RGB[MBROWS*16][MBCOLS*16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 code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918000"/>
            <a:ext cx="8294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16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0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dc0a00"/>
                </a:solidFill>
                <a:latin typeface="Courier New"/>
              </a:rPr>
              <a:t>ycrcb2r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1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8000"/>
                </a:solidFill>
                <a:latin typeface="Courier New"/>
              </a:rPr>
              <a:t>ycrcb2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2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419de"/>
                </a:solidFill>
                <a:latin typeface="Courier New"/>
              </a:rPr>
              <a:t>ycrcb2b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olor convertion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1338840"/>
            <a:ext cx="86868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r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rv = 10459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y + crv*(cb-128)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g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u = 2567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v = 532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-cgu*(cr-128)-cgv*(cb-128)+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ite RGB image in PPM form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366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LE* 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o.ppm", "w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rintf(fp, "%c%c\n%d %d\n%d\n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'P', '6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BCOLS*16, MBROWS*1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5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write(RGB, sizeof(unsigned cha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*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Application:</a:t>
            </a:r>
            <a:r>
              <a:rPr b="0" lang="en-US" sz="4400" spc="-1" strike="noStrike">
                <a:solidFill>
                  <a:srgbClr val="0419de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419de"/>
                </a:solidFill>
                <a:latin typeface="Arial"/>
              </a:rPr>
              <a:t>YUV-RGB color conversion</a:t>
            </a:r>
            <a:br>
              <a:rPr sz="48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part of a Digital Video Decoder)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2895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s from Lode Nachtergae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C Leu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dig.video coder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05320" y="2209680"/>
            <a:ext cx="1218960" cy="2895840"/>
            <a:chOff x="3505320" y="2209680"/>
            <a:chExt cx="1218960" cy="2895840"/>
          </a:xfrm>
        </p:grpSpPr>
        <p:sp>
          <p:nvSpPr>
            <p:cNvPr id="85" name=""/>
            <p:cNvSpPr/>
            <p:nvPr/>
          </p:nvSpPr>
          <p:spPr>
            <a:xfrm>
              <a:off x="3505320" y="2209680"/>
              <a:ext cx="1218960" cy="121932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3657600"/>
              <a:ext cx="609120" cy="6094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4495680"/>
              <a:ext cx="609120" cy="6098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3124080"/>
            <a:ext cx="1600200" cy="10670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080" y="3124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71800" y="28195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7339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42900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429000"/>
            <a:ext cx="2057400" cy="10666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7339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36232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14800" y="3962520"/>
            <a:ext cx="10666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of 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98144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utine upsamples color information (Cr and Cb), that is decoded by a video decoder to the size of the luminance information (Y). Then the luminance and chrominance information are transformed to a red, green and blue value for dis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Driver: YCrCb4:2:0 to RGB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362320"/>
            <a:ext cx="121896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6483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5627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4197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952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3341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867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88620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3341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11480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33412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867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53341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3623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9625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9718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44193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36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580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4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380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76312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Y, Cr420 and Cb420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4120" y="1219320"/>
            <a:ext cx="1218960" cy="1218960"/>
            <a:chOff x="5334120" y="1219320"/>
            <a:chExt cx="1218960" cy="1218960"/>
          </a:xfrm>
        </p:grpSpPr>
        <p:grpSp>
          <p:nvGrpSpPr>
            <p:cNvPr id="137" name=""/>
            <p:cNvGrpSpPr/>
            <p:nvPr/>
          </p:nvGrpSpPr>
          <p:grpSpPr>
            <a:xfrm>
              <a:off x="5334120" y="1219320"/>
              <a:ext cx="1218960" cy="1218960"/>
              <a:chOff x="5334120" y="1219320"/>
              <a:chExt cx="1218960" cy="1218960"/>
            </a:xfrm>
          </p:grpSpPr>
          <p:sp>
            <p:nvSpPr>
              <p:cNvPr id="138" name=""/>
              <p:cNvSpPr/>
              <p:nvPr/>
            </p:nvSpPr>
            <p:spPr>
              <a:xfrm>
                <a:off x="533412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64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386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913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36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958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485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008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3412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412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3412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412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3412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412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627520" y="15231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43800" y="1219320"/>
            <a:ext cx="1218960" cy="1218960"/>
            <a:chOff x="7543800" y="1219320"/>
            <a:chExt cx="1218960" cy="1218960"/>
          </a:xfrm>
        </p:grpSpPr>
        <p:grpSp>
          <p:nvGrpSpPr>
            <p:cNvPr id="156" name=""/>
            <p:cNvGrpSpPr/>
            <p:nvPr/>
          </p:nvGrpSpPr>
          <p:grpSpPr>
            <a:xfrm>
              <a:off x="7543800" y="1219320"/>
              <a:ext cx="1218960" cy="1218960"/>
              <a:chOff x="7543800" y="1219320"/>
              <a:chExt cx="1218960" cy="121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754380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6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483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010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532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055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582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104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627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4380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4380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380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4380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4380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380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4380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849440" y="15231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342200" y="2437200"/>
            <a:ext cx="1037520" cy="915120"/>
            <a:chOff x="7342200" y="2437200"/>
            <a:chExt cx="1037520" cy="915120"/>
          </a:xfrm>
        </p:grpSpPr>
        <p:sp>
          <p:nvSpPr>
            <p:cNvPr id="175" name=""/>
            <p:cNvSpPr/>
            <p:nvPr/>
          </p:nvSpPr>
          <p:spPr>
            <a:xfrm>
              <a:off x="7472520" y="243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0800" y="297180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7080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2308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72272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42200" y="2895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7080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2308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23080" y="3124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51680" y="3123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1680" y="2743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1680" y="2971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29800" y="281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1120" y="2513160"/>
            <a:ext cx="1283400" cy="1067760"/>
            <a:chOff x="4191120" y="2513160"/>
            <a:chExt cx="1283400" cy="1067760"/>
          </a:xfrm>
        </p:grpSpPr>
        <p:sp>
          <p:nvSpPr>
            <p:cNvPr id="189" name=""/>
            <p:cNvSpPr/>
            <p:nvPr/>
          </p:nvSpPr>
          <p:spPr>
            <a:xfrm>
              <a:off x="4345920" y="2513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9720" y="304776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2464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724280" y="2971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2971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97144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64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640" y="3352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953240" y="33526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3240" y="2819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324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5400" y="2970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3200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36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5160" y="990720"/>
            <a:ext cx="3045960" cy="2666880"/>
            <a:chOff x="1145160" y="990720"/>
            <a:chExt cx="3045960" cy="2666880"/>
          </a:xfrm>
        </p:grpSpPr>
        <p:sp>
          <p:nvSpPr>
            <p:cNvPr id="205" name=""/>
            <p:cNvSpPr/>
            <p:nvPr/>
          </p:nvSpPr>
          <p:spPr>
            <a:xfrm>
              <a:off x="1752480" y="1219320"/>
              <a:ext cx="304920" cy="304560"/>
            </a:xfrm>
            <a:prstGeom prst="rect">
              <a:avLst/>
            </a:prstGeom>
            <a:solidFill>
              <a:srgbClr val="ff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752480" y="1219320"/>
              <a:ext cx="2438640" cy="2438280"/>
              <a:chOff x="1752480" y="1219320"/>
              <a:chExt cx="2438640" cy="2438280"/>
            </a:xfrm>
          </p:grpSpPr>
          <p:sp>
            <p:nvSpPr>
              <p:cNvPr id="207" name=""/>
              <p:cNvSpPr/>
              <p:nvPr/>
            </p:nvSpPr>
            <p:spPr>
              <a:xfrm>
                <a:off x="1752480" y="1219320"/>
                <a:ext cx="243864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74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623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668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718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767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812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911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52480" y="15238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52480" y="18288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52480" y="21337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2480" y="24382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2480" y="2743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30481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52480" y="33526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43040" y="2042640"/>
              <a:ext cx="485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02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5160" y="2056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06668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930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1066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4120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3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08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5984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648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22 and Cb422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0560" y="2208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2743200"/>
            <a:ext cx="1526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9076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2666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048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19720" y="304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3960" y="2589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9800" y="684720"/>
            <a:ext cx="1826280" cy="2972880"/>
            <a:chOff x="5869800" y="684720"/>
            <a:chExt cx="1826280" cy="2972880"/>
          </a:xfrm>
        </p:grpSpPr>
        <p:sp>
          <p:nvSpPr>
            <p:cNvPr id="264" name=""/>
            <p:cNvSpPr/>
            <p:nvPr/>
          </p:nvSpPr>
          <p:spPr>
            <a:xfrm>
              <a:off x="647712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29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34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6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88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60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7712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9400" y="152352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60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420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29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438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980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7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831320" y="684720"/>
            <a:ext cx="1826280" cy="2972880"/>
            <a:chOff x="1831320" y="684720"/>
            <a:chExt cx="1826280" cy="2972880"/>
          </a:xfrm>
        </p:grpSpPr>
        <p:sp>
          <p:nvSpPr>
            <p:cNvPr id="298" name=""/>
            <p:cNvSpPr/>
            <p:nvPr/>
          </p:nvSpPr>
          <p:spPr>
            <a:xfrm>
              <a:off x="243864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909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32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58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81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0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30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5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3864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64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64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64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2040" y="152352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64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572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09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958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81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0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30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05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7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864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64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864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004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132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004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64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44 and Cb444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429080" y="2360880"/>
            <a:ext cx="1283400" cy="1067760"/>
            <a:chOff x="4429080" y="2360880"/>
            <a:chExt cx="1283400" cy="1067760"/>
          </a:xfrm>
        </p:grpSpPr>
        <p:sp>
          <p:nvSpPr>
            <p:cNvPr id="334" name=""/>
            <p:cNvSpPr/>
            <p:nvPr/>
          </p:nvSpPr>
          <p:spPr>
            <a:xfrm>
              <a:off x="4583880" y="2360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57680" y="289548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5768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260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6224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29080" y="28191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57680" y="281916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260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2600" y="3200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191200" y="32004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91200" y="26668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9120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3360" y="2817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5768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032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383480" y="532440"/>
            <a:ext cx="3045600" cy="2972880"/>
            <a:chOff x="1383480" y="532440"/>
            <a:chExt cx="3045600" cy="2972880"/>
          </a:xfrm>
        </p:grpSpPr>
        <p:grpSp>
          <p:nvGrpSpPr>
            <p:cNvPr id="350" name=""/>
            <p:cNvGrpSpPr/>
            <p:nvPr/>
          </p:nvGrpSpPr>
          <p:grpSpPr>
            <a:xfrm>
              <a:off x="1990800" y="1066680"/>
              <a:ext cx="2438280" cy="2438280"/>
              <a:chOff x="1990800" y="1066680"/>
              <a:chExt cx="2438280" cy="2438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99080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95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00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048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97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46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192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241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290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9080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9080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9080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9080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9080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080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9080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92080" y="18903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6220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6220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816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8348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908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908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080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3104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574600" y="532440"/>
            <a:ext cx="3045600" cy="2972880"/>
            <a:chOff x="5574600" y="532440"/>
            <a:chExt cx="3045600" cy="2972880"/>
          </a:xfrm>
        </p:grpSpPr>
        <p:grpSp>
          <p:nvGrpSpPr>
            <p:cNvPr id="377" name=""/>
            <p:cNvGrpSpPr/>
            <p:nvPr/>
          </p:nvGrpSpPr>
          <p:grpSpPr>
            <a:xfrm>
              <a:off x="6181920" y="1066680"/>
              <a:ext cx="2438280" cy="2438280"/>
              <a:chOff x="6181920" y="1066680"/>
              <a:chExt cx="2438280" cy="2438280"/>
            </a:xfrm>
          </p:grpSpPr>
          <p:sp>
            <p:nvSpPr>
              <p:cNvPr id="378" name=""/>
              <p:cNvSpPr/>
              <p:nvPr/>
            </p:nvSpPr>
            <p:spPr>
              <a:xfrm>
                <a:off x="618192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64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914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959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4008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058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0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15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6202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8192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192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192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8192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8192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8192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8192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832080" y="18903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332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5332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2928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460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192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202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8192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216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Read Input Data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200" y="1283400"/>
            <a:ext cx="841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y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Y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u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v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13:01:36Z</dcterms:created>
  <dc:creator>nachterg</dc:creator>
  <dc:description/>
  <dc:language>en-US</dc:language>
  <cp:lastModifiedBy>Henk Corporaal</cp:lastModifiedBy>
  <dcterms:modified xsi:type="dcterms:W3CDTF">2003-06-05T13:42:47Z</dcterms:modified>
  <cp:revision>17</cp:revision>
  <dc:subject/>
  <dc:title>Data Transfer and Storage Exploration (DTSE) for color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imecwww/~nachterg</vt:lpwstr>
  </property>
  <property fmtid="{D5CDD505-2E9C-101B-9397-08002B2CF9AE}" pid="9" name="LinkColor">
    <vt:r8>16711782</vt:r8>
  </property>
  <property fmtid="{D5CDD505-2E9C-101B-9397-08002B2CF9AE}" pid="10" name="MailAddress">
    <vt:lpwstr>nachterg@imec.be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Z:\ycrcb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