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86868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83320"/>
            <a:ext cx="86868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8600" y="12697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833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8600" y="38833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279684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4440" y="1269720"/>
            <a:ext cx="279684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31320" y="1269720"/>
            <a:ext cx="279684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83320"/>
            <a:ext cx="279684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4440" y="3883320"/>
            <a:ext cx="279684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31320" y="3883320"/>
            <a:ext cx="279684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69720"/>
            <a:ext cx="8686800" cy="50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8686800" cy="50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4239000" cy="50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08600" y="1269720"/>
            <a:ext cx="4239000" cy="50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686800" cy="33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08600" y="1269720"/>
            <a:ext cx="4239000" cy="50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8833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9720"/>
            <a:ext cx="8686800" cy="50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4239000" cy="50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8600" y="12697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08600" y="38833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8600" y="12697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83320"/>
            <a:ext cx="86868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86868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883320"/>
            <a:ext cx="86868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8600" y="12697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833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08600" y="38833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279684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94440" y="1269720"/>
            <a:ext cx="279684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31320" y="1269720"/>
            <a:ext cx="279684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883320"/>
            <a:ext cx="279684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94440" y="3883320"/>
            <a:ext cx="279684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31320" y="3883320"/>
            <a:ext cx="279684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8686800" cy="50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4239000" cy="50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8600" y="1269720"/>
            <a:ext cx="4239000" cy="50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686800" cy="33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8600" y="1269720"/>
            <a:ext cx="4239000" cy="50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833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4239000" cy="50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8600" y="12697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8600" y="38833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8600" y="12697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83320"/>
            <a:ext cx="86868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19de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9720"/>
            <a:ext cx="8686800" cy="50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4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4440">
              <a:lnSpc>
                <a:spcPct val="94000"/>
              </a:lnSpc>
              <a:spcBef>
                <a:spcPts val="1500"/>
              </a:spcBef>
              <a:buClr>
                <a:srgbClr val="00ffff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8320">
              <a:lnSpc>
                <a:spcPct val="94000"/>
              </a:lnSpc>
              <a:spcBef>
                <a:spcPts val="1500"/>
              </a:spcBef>
              <a:buClr>
                <a:srgbClr val="ffff00"/>
              </a:buClr>
              <a:buSzPct val="69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031840" indent="-228600">
              <a:lnSpc>
                <a:spcPct val="94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51240" indent="-228600">
              <a:lnSpc>
                <a:spcPct val="94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451240" indent="-228600">
              <a:lnSpc>
                <a:spcPct val="94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451240" indent="-228600">
              <a:lnSpc>
                <a:spcPct val="94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74680" y="1352520"/>
            <a:ext cx="7631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0120" y="6629400"/>
            <a:ext cx="152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TMM YUV-RG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6320"/>
            <a:ext cx="419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BD77-3E6A-4DCC-86AC-088EB020FFC3}" type="slidenum">
              <a:rPr b="0" i="1" lang="en-US" sz="1400" spc="-1" strike="noStrike">
                <a:solidFill>
                  <a:srgbClr val="000000"/>
                </a:solidFill>
                <a:latin typeface="GillSans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364680"/>
            <a:ext cx="6858000" cy="180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19de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4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9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07920" algn="ctr">
              <a:lnSpc>
                <a:spcPct val="87000"/>
              </a:lnSpc>
              <a:spcBef>
                <a:spcPts val="249"/>
              </a:spcBef>
              <a:buClr>
                <a:srgbClr val="ffff00"/>
              </a:buClr>
              <a:buSzPct val="69000"/>
              <a:buFont typeface="Wingdings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43164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7720" indent="30492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7720" indent="304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7720" indent="304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3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19de"/>
                </a:solidFill>
                <a:latin typeface="Arial"/>
                <a:ea typeface="Times New Roman"/>
              </a:rPr>
              <a:t>Design Technology for </a:t>
            </a:r>
            <a:br>
              <a:rPr sz="4000"/>
            </a:br>
            <a:r>
              <a:rPr b="0" lang="en-US" sz="4000" spc="-1" strike="noStrike">
                <a:solidFill>
                  <a:srgbClr val="0419de"/>
                </a:solidFill>
                <a:latin typeface="Arial"/>
                <a:ea typeface="Times New Roman"/>
              </a:rPr>
              <a:t>Multi-Media Systems</a:t>
            </a:r>
            <a:r>
              <a:rPr b="0" lang="en-US" sz="4000" spc="-1" strike="noStrike">
                <a:solidFill>
                  <a:srgbClr val="0419de"/>
                </a:solidFill>
                <a:latin typeface="Arial"/>
              </a:rPr>
              <a:t> (5P600/TD5102)</a:t>
            </a:r>
            <a:br>
              <a:rPr sz="4000"/>
            </a:br>
            <a:br>
              <a:rPr sz="4000"/>
            </a:br>
            <a:r>
              <a:rPr b="1" lang="en-US" sz="4800" spc="-1" strike="noStrike">
                <a:solidFill>
                  <a:srgbClr val="dc0a00"/>
                </a:solidFill>
                <a:latin typeface="Arial"/>
              </a:rPr>
              <a:t>Lab.exercise PMM</a:t>
            </a:r>
            <a:endParaRPr b="0" lang="en-US" sz="48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00200" y="3886200"/>
            <a:ext cx="55627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nk Corpora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cal University Eindho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TI / NUS Singap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19de"/>
                </a:solidFill>
                <a:latin typeface="Arial"/>
              </a:rPr>
              <a:t>Vertical Upsampling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17600" y="3768840"/>
            <a:ext cx="767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row=0; row &lt; MBROWS*8; row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col=0; col &lt; MBCOLS*8; col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r422[2*row  ][col]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volV0(Cr420, col, row-3, row+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r422[2*row+1][col]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volV1(Cr420, col, row-2, row+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05120" y="1752480"/>
            <a:ext cx="609480" cy="60984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05120" y="2666880"/>
            <a:ext cx="609480" cy="60984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819520" y="1523880"/>
            <a:ext cx="914400" cy="838440"/>
          </a:xfrm>
          <a:prstGeom prst="cube">
            <a:avLst>
              <a:gd name="adj" fmla="val 25000"/>
            </a:avLst>
          </a:prstGeom>
          <a:solidFill>
            <a:srgbClr val="ff963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14600" y="20574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19520" y="2438280"/>
            <a:ext cx="914400" cy="838440"/>
          </a:xfrm>
          <a:prstGeom prst="cube">
            <a:avLst>
              <a:gd name="adj" fmla="val 25000"/>
            </a:avLst>
          </a:prstGeom>
          <a:solidFill>
            <a:srgbClr val="ff963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14600" y="2971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038480" y="990720"/>
            <a:ext cx="609840" cy="121896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38480" y="2438280"/>
            <a:ext cx="609840" cy="12193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657600" y="1981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657600" y="2895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648320" y="16765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648320" y="29718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419de"/>
                </a:solidFill>
                <a:latin typeface="Arial"/>
              </a:rPr>
              <a:t>Vertical filtering for even columns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52280" y="1371600"/>
            <a:ext cx="8991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signed char convolV0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signed char value[MBROWS*8][MBCOLS*8]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col, int start_row, int stop_r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=0, sum=128;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t int coeffs[]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3, -16, 67, 227, -32, 7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; start_row+i &lt;= stop_row;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 += value[wrap(startRow+i,MBROWS*8)][col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coeffs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clip(sum&gt;&gt;8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419de"/>
                </a:solidFill>
                <a:latin typeface="Arial"/>
              </a:rPr>
              <a:t>Wrap and Clip functions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59000" y="1061280"/>
            <a:ext cx="6581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rap (int coord, int max) {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f (coord &lt; 0) return 0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f (coord &gt;= max) return max-1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eturn coor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nsigned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lip(int value) {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f (value &lt; 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eturn (unsigned char)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f (value &gt; 25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eturn (unsigned char) 25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eturn (unsigned char) val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610480" cy="73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19de"/>
                </a:solidFill>
                <a:latin typeface="Arial"/>
              </a:rPr>
              <a:t>Horizontal Upsampling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29200" y="3581280"/>
            <a:ext cx="7313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 (row=0; row &lt; MBROWS*16; row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 (col=0; col &lt; MBCOLS*8; col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r444[row][2*col  ]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onvolH0(Cr422, row,col-3,col+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r444[row][2*col+1]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onvolH1(Cr422, row,col-2,col+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876920" y="762120"/>
            <a:ext cx="609480" cy="121896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609480" cy="12193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91320" y="990720"/>
            <a:ext cx="1066680" cy="838080"/>
          </a:xfrm>
          <a:prstGeom prst="cube">
            <a:avLst>
              <a:gd name="adj" fmla="val 25000"/>
            </a:avLst>
          </a:prstGeom>
          <a:solidFill>
            <a:srgbClr val="ff963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486400" y="1447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91320" y="2209680"/>
            <a:ext cx="1066680" cy="838440"/>
          </a:xfrm>
          <a:prstGeom prst="cube">
            <a:avLst>
              <a:gd name="adj" fmla="val 25000"/>
            </a:avLst>
          </a:prstGeom>
          <a:solidFill>
            <a:srgbClr val="ff963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486400" y="27432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781680" y="14479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81680" y="26668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162920" y="685800"/>
            <a:ext cx="1218960" cy="12193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162920" y="2209680"/>
            <a:ext cx="1218960" cy="12193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381880" y="1295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381880" y="28195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419de"/>
                </a:solidFill>
                <a:latin typeface="Arial"/>
              </a:rPr>
              <a:t>Horizontal filtering for even rows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4960" y="1371600"/>
            <a:ext cx="8410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signed char convolH0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signed char value[MBROWS*16][MBCOLS*8]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row, int start_col, int stop_c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=0, sum=128;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t int coeffs[]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{5, -21, 70, 228, -37, 11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; start_col+i &lt;= stop_col;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 += value[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wrap(start_col+i,MBROWS*8)]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effs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clip(sum&gt;&gt;8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419de"/>
                </a:solidFill>
                <a:latin typeface="Arial"/>
              </a:rPr>
              <a:t>Color Conversion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600200" y="2895480"/>
            <a:ext cx="1219320" cy="12193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4419720"/>
            <a:ext cx="1219320" cy="121896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600200" y="1447920"/>
            <a:ext cx="1219320" cy="121896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876920" y="2895480"/>
            <a:ext cx="1218960" cy="12193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G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76720" y="3048120"/>
            <a:ext cx="1066680" cy="838080"/>
          </a:xfrm>
          <a:prstGeom prst="cube">
            <a:avLst>
              <a:gd name="adj" fmla="val 25000"/>
            </a:avLst>
          </a:prstGeom>
          <a:solidFill>
            <a:srgbClr val="ff963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819520" y="2057400"/>
            <a:ext cx="4572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19520" y="3505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2819520" y="3504960"/>
            <a:ext cx="45720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267080" y="3505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4440" y="594252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nsigned char RGB[MBROWS*16][MBCOLS*16][3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419de"/>
                </a:solidFill>
                <a:latin typeface="Arial"/>
              </a:rPr>
              <a:t>Color conversion code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57200" y="918000"/>
            <a:ext cx="82947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 (row=0; row &lt; MBROWS*16; row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 (col=0; col &lt; MBCOLS*16; col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GB[row][col][0]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2400" spc="-1" strike="noStrike">
                <a:solidFill>
                  <a:srgbClr val="dc0a00"/>
                </a:solidFill>
                <a:latin typeface="Courier New"/>
              </a:rPr>
              <a:t>ycrcb2r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(    Y[row][col]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r444[row][col]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b444[row][col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GB[row][col][1]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2400" spc="-1" strike="noStrike">
                <a:solidFill>
                  <a:srgbClr val="008000"/>
                </a:solidFill>
                <a:latin typeface="Courier New"/>
              </a:rPr>
              <a:t>ycrcb2g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(    Y[row][col]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r444[row][col]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b444[row][col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GB[row][col][2]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2400" spc="-1" strike="noStrike">
                <a:solidFill>
                  <a:srgbClr val="0419de"/>
                </a:solidFill>
                <a:latin typeface="Courier New"/>
              </a:rPr>
              <a:t>ycrcb2b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(    Y[row][col]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r444[row][col]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b444[row][col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73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19de"/>
                </a:solidFill>
                <a:latin typeface="Arial"/>
              </a:rPr>
              <a:t>Color convertion functions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" y="1338840"/>
            <a:ext cx="868680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signed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crcb2r (int y, int cr, int cb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t int crv = 104597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= 76309 * (y - 1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 clip((y + crv*(cb-128)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2768)&gt;&gt;1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signed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crcb2g (int y, int cr, int cb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t int cgu = 2567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t int cgv = 53279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= 76309 * (y - 1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 clip(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-cgu*(cr-128)-cgv*(cb-128)+32768)&gt;&gt;1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419de"/>
                </a:solidFill>
                <a:latin typeface="Arial"/>
              </a:rPr>
              <a:t>Write RGB image in PPM form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366920"/>
            <a:ext cx="876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ILE* 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f ((fp = fopen("o.ppm", "wb")) != NULL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printf(fp, "%c%c\n%d %d\n%d\n"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'P', '6'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MBCOLS*16, MBROWS*16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25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write(RGB, sizeof(unsigned char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(MBROWS*16)*(MBCOLS*16)*3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686800" cy="73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19de"/>
                </a:solidFill>
                <a:latin typeface="Arial"/>
              </a:rPr>
              <a:t>Application:</a:t>
            </a:r>
            <a:r>
              <a:rPr b="0" lang="en-US" sz="4400" spc="-1" strike="noStrike">
                <a:solidFill>
                  <a:srgbClr val="0419de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800" spc="-1" strike="noStrike">
                <a:solidFill>
                  <a:srgbClr val="0419de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419de"/>
                </a:solidFill>
                <a:latin typeface="Arial"/>
              </a:rPr>
              <a:t>YUV-RGB color conversion</a:t>
            </a:r>
            <a:br>
              <a:rPr sz="4800"/>
            </a:br>
            <a:r>
              <a:rPr b="0" lang="en-US" sz="4800" spc="-1" strike="noStrike">
                <a:solidFill>
                  <a:srgbClr val="0419de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419de"/>
                </a:solidFill>
                <a:latin typeface="Arial"/>
              </a:rPr>
              <a:t>part of a Digital Video Decoder)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289548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des from Lode Nachtergae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EC Leuv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19de"/>
                </a:solidFill>
                <a:latin typeface="Arial"/>
              </a:rPr>
              <a:t>Functionality dig.video coder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505320" y="2209680"/>
            <a:ext cx="1218960" cy="2895840"/>
            <a:chOff x="3505320" y="2209680"/>
            <a:chExt cx="1218960" cy="2895840"/>
          </a:xfrm>
        </p:grpSpPr>
        <p:sp>
          <p:nvSpPr>
            <p:cNvPr id="85" name=""/>
            <p:cNvSpPr/>
            <p:nvPr/>
          </p:nvSpPr>
          <p:spPr>
            <a:xfrm>
              <a:off x="3505320" y="2209680"/>
              <a:ext cx="1218960" cy="1219320"/>
            </a:xfrm>
            <a:prstGeom prst="rect">
              <a:avLst/>
            </a:prstGeom>
            <a:solidFill>
              <a:srgbClr val="00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5320" y="3657600"/>
              <a:ext cx="609120" cy="609480"/>
            </a:xfrm>
            <a:prstGeom prst="rect">
              <a:avLst/>
            </a:prstGeom>
            <a:solidFill>
              <a:srgbClr val="00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5320" y="4495680"/>
              <a:ext cx="609120" cy="609840"/>
            </a:xfrm>
            <a:prstGeom prst="rect">
              <a:avLst/>
            </a:prstGeom>
            <a:solidFill>
              <a:srgbClr val="00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523880" y="3124080"/>
            <a:ext cx="1600200" cy="1067040"/>
          </a:xfrm>
          <a:prstGeom prst="cube">
            <a:avLst>
              <a:gd name="adj" fmla="val 25000"/>
            </a:avLst>
          </a:prstGeom>
          <a:solidFill>
            <a:srgbClr val="ff963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c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37339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4080" y="312408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971800" y="2819520"/>
            <a:ext cx="5335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3733920"/>
            <a:ext cx="53352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429000"/>
            <a:ext cx="1219320" cy="12193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G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3429000"/>
            <a:ext cx="2057400" cy="1066680"/>
          </a:xfrm>
          <a:prstGeom prst="cube">
            <a:avLst>
              <a:gd name="adj" fmla="val 25000"/>
            </a:avLst>
          </a:prstGeom>
          <a:solidFill>
            <a:srgbClr val="ff963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3733920"/>
            <a:ext cx="5335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86600" y="40384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2362320"/>
            <a:ext cx="4572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39625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114800" y="3962520"/>
            <a:ext cx="10666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19de"/>
                </a:solidFill>
                <a:latin typeface="Arial"/>
              </a:rPr>
              <a:t>Functionality of color conversion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1981440"/>
            <a:ext cx="685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utine upsamples color information (Cr and Cb), that is decoded by a video decoder to the size of the luminance information (Y). Then the luminance and chrominance information are transformed to a red, green and blue value for displ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19de"/>
                </a:solidFill>
                <a:latin typeface="Arial"/>
              </a:rPr>
              <a:t>Driver: YCrCb4:2:0 to RGB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2362320"/>
            <a:ext cx="1218960" cy="121896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4648320"/>
            <a:ext cx="609480" cy="60948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320" y="5562720"/>
            <a:ext cx="609480" cy="60948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4419720"/>
            <a:ext cx="914400" cy="838080"/>
          </a:xfrm>
          <a:prstGeom prst="cube">
            <a:avLst>
              <a:gd name="adj" fmla="val 25000"/>
            </a:avLst>
          </a:prstGeom>
          <a:solidFill>
            <a:srgbClr val="ff963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49528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5334120"/>
            <a:ext cx="914400" cy="838080"/>
          </a:xfrm>
          <a:prstGeom prst="cube">
            <a:avLst>
              <a:gd name="adj" fmla="val 25000"/>
            </a:avLst>
          </a:prstGeom>
          <a:solidFill>
            <a:srgbClr val="ff963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5867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886200"/>
            <a:ext cx="609840" cy="12193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5334120"/>
            <a:ext cx="609840" cy="121896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876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5791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4114800"/>
            <a:ext cx="1067040" cy="838080"/>
          </a:xfrm>
          <a:prstGeom prst="cube">
            <a:avLst>
              <a:gd name="adj" fmla="val 25000"/>
            </a:avLst>
          </a:prstGeom>
          <a:solidFill>
            <a:srgbClr val="ff963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45720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5334120"/>
            <a:ext cx="1067040" cy="838080"/>
          </a:xfrm>
          <a:prstGeom prst="cube">
            <a:avLst>
              <a:gd name="adj" fmla="val 25000"/>
            </a:avLst>
          </a:prstGeom>
          <a:solidFill>
            <a:srgbClr val="ff963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58672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4572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809880"/>
            <a:ext cx="1219320" cy="12193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5334120"/>
            <a:ext cx="1219320" cy="121896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2362320"/>
            <a:ext cx="1219320" cy="121896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3809880"/>
            <a:ext cx="1219320" cy="12193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G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72200" y="3962520"/>
            <a:ext cx="1066680" cy="838080"/>
          </a:xfrm>
          <a:prstGeom prst="cube">
            <a:avLst>
              <a:gd name="adj" fmla="val 25000"/>
            </a:avLst>
          </a:prstGeom>
          <a:solidFill>
            <a:srgbClr val="ff963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2971800"/>
            <a:ext cx="4572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4419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4419360"/>
            <a:ext cx="45720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4419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40" y="1523880"/>
            <a:ext cx="109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Cr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:2: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08360" y="1523880"/>
            <a:ext cx="109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Cr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:2: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65800" y="1523880"/>
            <a:ext cx="109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Cr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:4: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543800" y="1219320"/>
            <a:ext cx="152280" cy="152280"/>
          </a:xfrm>
          <a:prstGeom prst="rect">
            <a:avLst/>
          </a:prstGeom>
          <a:solidFill>
            <a:srgbClr val="ff96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1219320"/>
            <a:ext cx="152280" cy="152280"/>
          </a:xfrm>
          <a:prstGeom prst="rect">
            <a:avLst/>
          </a:prstGeom>
          <a:solidFill>
            <a:srgbClr val="ff96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763120" cy="73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419de"/>
                </a:solidFill>
                <a:latin typeface="Arial"/>
              </a:rPr>
              <a:t>Size of Y, Cr420 and Cb420 images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87360" y="3828960"/>
            <a:ext cx="786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// CIF:18*16=288 rows and 22*16=352 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#define MBROWS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#define MBCOLS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nsigned char Y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MBROWS*16][MBCOLS*16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signed char Cr420[MBROWS*8 ][MBCOLS*8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signed char Cb420[MBROWS*8 ][MBCOLS*8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334120" y="1219320"/>
            <a:ext cx="1218960" cy="1218960"/>
            <a:chOff x="5334120" y="1219320"/>
            <a:chExt cx="1218960" cy="1218960"/>
          </a:xfrm>
        </p:grpSpPr>
        <p:grpSp>
          <p:nvGrpSpPr>
            <p:cNvPr id="137" name=""/>
            <p:cNvGrpSpPr/>
            <p:nvPr/>
          </p:nvGrpSpPr>
          <p:grpSpPr>
            <a:xfrm>
              <a:off x="5334120" y="1219320"/>
              <a:ext cx="1218960" cy="1218960"/>
              <a:chOff x="5334120" y="1219320"/>
              <a:chExt cx="1218960" cy="1218960"/>
            </a:xfrm>
          </p:grpSpPr>
          <p:sp>
            <p:nvSpPr>
              <p:cNvPr id="138" name=""/>
              <p:cNvSpPr/>
              <p:nvPr/>
            </p:nvSpPr>
            <p:spPr>
              <a:xfrm>
                <a:off x="5334120" y="1219320"/>
                <a:ext cx="1218960" cy="1218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48640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63868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79132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94360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9588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24852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40080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55308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334120" y="137160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334120" y="152388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334120" y="167616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334120" y="182880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334120" y="198108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334120" y="213336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334120" y="228600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5627520" y="1523160"/>
              <a:ext cx="6638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7543800" y="1219320"/>
            <a:ext cx="1218960" cy="1218960"/>
            <a:chOff x="7543800" y="1219320"/>
            <a:chExt cx="1218960" cy="1218960"/>
          </a:xfrm>
        </p:grpSpPr>
        <p:grpSp>
          <p:nvGrpSpPr>
            <p:cNvPr id="156" name=""/>
            <p:cNvGrpSpPr/>
            <p:nvPr/>
          </p:nvGrpSpPr>
          <p:grpSpPr>
            <a:xfrm>
              <a:off x="7543800" y="1219320"/>
              <a:ext cx="1218960" cy="1218960"/>
              <a:chOff x="7543800" y="1219320"/>
              <a:chExt cx="1218960" cy="1218960"/>
            </a:xfrm>
          </p:grpSpPr>
          <p:sp>
            <p:nvSpPr>
              <p:cNvPr id="157" name=""/>
              <p:cNvSpPr/>
              <p:nvPr/>
            </p:nvSpPr>
            <p:spPr>
              <a:xfrm>
                <a:off x="7543800" y="1219320"/>
                <a:ext cx="1218960" cy="1218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69608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84836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00100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15328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30556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45820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61048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76276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543800" y="137160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543800" y="152388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43800" y="167616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43800" y="182880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543800" y="198108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543800" y="213336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543800" y="228600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7849440" y="1523160"/>
              <a:ext cx="7660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C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7342200" y="2437200"/>
            <a:ext cx="1037520" cy="915120"/>
            <a:chOff x="7342200" y="2437200"/>
            <a:chExt cx="1037520" cy="915120"/>
          </a:xfrm>
        </p:grpSpPr>
        <p:sp>
          <p:nvSpPr>
            <p:cNvPr id="175" name=""/>
            <p:cNvSpPr/>
            <p:nvPr/>
          </p:nvSpPr>
          <p:spPr>
            <a:xfrm>
              <a:off x="7472520" y="2437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70800" y="2971800"/>
              <a:ext cx="152280" cy="152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70800" y="281916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723080" y="281916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7722720" y="28954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42200" y="28954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70800" y="28954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723080" y="29718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723080" y="3124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7951680" y="3123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951680" y="27432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51680" y="29718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29800" y="281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191120" y="2513160"/>
            <a:ext cx="1283400" cy="1067760"/>
            <a:chOff x="4191120" y="2513160"/>
            <a:chExt cx="1283400" cy="1067760"/>
          </a:xfrm>
        </p:grpSpPr>
        <p:sp>
          <p:nvSpPr>
            <p:cNvPr id="189" name=""/>
            <p:cNvSpPr/>
            <p:nvPr/>
          </p:nvSpPr>
          <p:spPr>
            <a:xfrm>
              <a:off x="4345920" y="25131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419720" y="3047760"/>
              <a:ext cx="304920" cy="30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19720" y="289548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724640" y="289548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4724280" y="29714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91120" y="297144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19720" y="2971440"/>
              <a:ext cx="33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24640" y="3047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24640" y="33526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953240" y="335268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53240" y="281916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53240" y="304776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955400" y="29700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19720" y="32000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72360" y="304776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145160" y="990720"/>
            <a:ext cx="3045960" cy="2666880"/>
            <a:chOff x="1145160" y="990720"/>
            <a:chExt cx="3045960" cy="2666880"/>
          </a:xfrm>
        </p:grpSpPr>
        <p:sp>
          <p:nvSpPr>
            <p:cNvPr id="205" name=""/>
            <p:cNvSpPr/>
            <p:nvPr/>
          </p:nvSpPr>
          <p:spPr>
            <a:xfrm>
              <a:off x="1752480" y="1219320"/>
              <a:ext cx="304920" cy="304560"/>
            </a:xfrm>
            <a:prstGeom prst="rect">
              <a:avLst/>
            </a:prstGeom>
            <a:solidFill>
              <a:srgbClr val="ff9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1752480" y="1219320"/>
              <a:ext cx="2438640" cy="2438280"/>
              <a:chOff x="1752480" y="1219320"/>
              <a:chExt cx="2438640" cy="2438280"/>
            </a:xfrm>
          </p:grpSpPr>
          <p:sp>
            <p:nvSpPr>
              <p:cNvPr id="207" name=""/>
              <p:cNvSpPr/>
              <p:nvPr/>
            </p:nvSpPr>
            <p:spPr>
              <a:xfrm>
                <a:off x="1752480" y="1219320"/>
                <a:ext cx="2438640" cy="2438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057400" y="121932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362320" y="121932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66880" y="121932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971800" y="121932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276720" y="121932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581280" y="121932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86200" y="121932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91120" y="121932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752480" y="1523880"/>
                <a:ext cx="2438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752480" y="1828800"/>
                <a:ext cx="2438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752480" y="2133720"/>
                <a:ext cx="2438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752480" y="2438280"/>
                <a:ext cx="2438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752480" y="2743200"/>
                <a:ext cx="2438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752480" y="3048120"/>
                <a:ext cx="2438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752480" y="3352680"/>
                <a:ext cx="2438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2543040" y="2042640"/>
              <a:ext cx="4856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23880" y="12193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23880" y="3657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00200" y="1219320"/>
              <a:ext cx="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45160" y="20563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52480" y="990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91120" y="990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52480" y="1066680"/>
              <a:ext cx="243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593080" y="684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05520" y="1219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99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53080" y="99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4120" y="10666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05520" y="2438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8148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41200" y="684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15200" y="1219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543800" y="99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763120" y="99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0880" y="684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59840" y="1522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936480" y="1522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2438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5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839080" cy="73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419de"/>
                </a:solidFill>
                <a:latin typeface="Arial"/>
              </a:rPr>
              <a:t>Size of Cr422 and Cb422 images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87360" y="3828960"/>
            <a:ext cx="786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// CIF:18*16=288 rows and 22*16=352 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#define MBROWS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#define MBCOLS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nsigned char Y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MBROWS*16][MBCOLS*16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signed char Cr422[MBROWS*16][MBCOLS*8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signed char Cb422[MBROWS*16][MBCOLS*8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40560" y="2208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38480" y="2743200"/>
            <a:ext cx="1526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38480" y="2590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2590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190760" y="2666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9880" y="2666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038480" y="26668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2743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91120" y="30481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419720" y="3047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1972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13960" y="2589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869800" y="684720"/>
            <a:ext cx="1826280" cy="2972880"/>
            <a:chOff x="5869800" y="684720"/>
            <a:chExt cx="1826280" cy="2972880"/>
          </a:xfrm>
        </p:grpSpPr>
        <p:sp>
          <p:nvSpPr>
            <p:cNvPr id="264" name=""/>
            <p:cNvSpPr/>
            <p:nvPr/>
          </p:nvSpPr>
          <p:spPr>
            <a:xfrm>
              <a:off x="6477120" y="1219320"/>
              <a:ext cx="1218960" cy="2438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62940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8168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93432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08660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23888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39152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54380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9608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77120" y="243828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77120" y="152388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77120" y="182880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477120" y="213372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19400" y="1523520"/>
              <a:ext cx="7660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C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96080" y="990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77120" y="106668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84200" y="6847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62940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78168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93432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08660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3888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39152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54380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69608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77120" y="274320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77120" y="304812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77120" y="335268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48520" y="12193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69800" y="22086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24480" y="1219320"/>
              <a:ext cx="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48520" y="3657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77120" y="990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831320" y="684720"/>
            <a:ext cx="1826280" cy="2972880"/>
            <a:chOff x="1831320" y="684720"/>
            <a:chExt cx="1826280" cy="2972880"/>
          </a:xfrm>
        </p:grpSpPr>
        <p:sp>
          <p:nvSpPr>
            <p:cNvPr id="298" name=""/>
            <p:cNvSpPr/>
            <p:nvPr/>
          </p:nvSpPr>
          <p:spPr>
            <a:xfrm>
              <a:off x="2438640" y="1219320"/>
              <a:ext cx="1218960" cy="2438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59092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74320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9584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4812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0040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5304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0532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65760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438640" y="243828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38640" y="152388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38640" y="182880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38640" y="213372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732040" y="1523520"/>
              <a:ext cx="6638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57600" y="990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438640" y="106668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5720" y="6847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9092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4320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89584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04812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0040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5304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0532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65760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438640" y="274320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38640" y="304812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438640" y="335268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10040" y="12193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31320" y="22086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86000" y="1219320"/>
              <a:ext cx="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10040" y="3657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38640" y="990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610480" cy="73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419de"/>
                </a:solidFill>
                <a:latin typeface="Arial"/>
              </a:rPr>
              <a:t>Size of Cr444 and Cb444 images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287360" y="3828960"/>
            <a:ext cx="786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// CIF:18*16=288 rows and 22*16=352 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#define MBROWS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#define MBCOLS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nsigned char Y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MBROWS*16][MBCOLS*16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signed char Cr444[MBROWS*16][MBCOLS*16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signed char Cb444[MBROWS*16][MBCOLS*16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4429080" y="2360880"/>
            <a:ext cx="1283400" cy="1067760"/>
            <a:chOff x="4429080" y="2360880"/>
            <a:chExt cx="1283400" cy="1067760"/>
          </a:xfrm>
        </p:grpSpPr>
        <p:sp>
          <p:nvSpPr>
            <p:cNvPr id="334" name=""/>
            <p:cNvSpPr/>
            <p:nvPr/>
          </p:nvSpPr>
          <p:spPr>
            <a:xfrm>
              <a:off x="4583880" y="23608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657680" y="2895480"/>
              <a:ext cx="304920" cy="30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657680" y="27432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962600" y="27432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962240" y="2819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29080" y="28191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657680" y="2819160"/>
              <a:ext cx="33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962600" y="2895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962600" y="32004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191200" y="320040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91200" y="266688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91200" y="28954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93360" y="28177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657680" y="3047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810320" y="28954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383480" y="532440"/>
            <a:ext cx="3045600" cy="2972880"/>
            <a:chOff x="1383480" y="532440"/>
            <a:chExt cx="3045600" cy="2972880"/>
          </a:xfrm>
        </p:grpSpPr>
        <p:grpSp>
          <p:nvGrpSpPr>
            <p:cNvPr id="350" name=""/>
            <p:cNvGrpSpPr/>
            <p:nvPr/>
          </p:nvGrpSpPr>
          <p:grpSpPr>
            <a:xfrm>
              <a:off x="1990800" y="1066680"/>
              <a:ext cx="2438280" cy="2438280"/>
              <a:chOff x="1990800" y="1066680"/>
              <a:chExt cx="2438280" cy="2438280"/>
            </a:xfrm>
          </p:grpSpPr>
          <p:sp>
            <p:nvSpPr>
              <p:cNvPr id="351" name=""/>
              <p:cNvSpPr/>
              <p:nvPr/>
            </p:nvSpPr>
            <p:spPr>
              <a:xfrm>
                <a:off x="1990800" y="1066680"/>
                <a:ext cx="2438280" cy="2438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29536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60028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90484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0976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51468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81924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12416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42908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990800" y="137124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990800" y="167616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990800" y="198108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990800" y="228564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90800" y="259056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990800" y="289548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990800" y="320004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2692080" y="1890360"/>
              <a:ext cx="6638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762200" y="10666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62200" y="35053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838160" y="1066680"/>
              <a:ext cx="0" cy="243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383480" y="19040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990800" y="838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429080" y="838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990800" y="91440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31040" y="5324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574600" y="532440"/>
            <a:ext cx="3045600" cy="2972880"/>
            <a:chOff x="5574600" y="532440"/>
            <a:chExt cx="3045600" cy="2972880"/>
          </a:xfrm>
        </p:grpSpPr>
        <p:grpSp>
          <p:nvGrpSpPr>
            <p:cNvPr id="377" name=""/>
            <p:cNvGrpSpPr/>
            <p:nvPr/>
          </p:nvGrpSpPr>
          <p:grpSpPr>
            <a:xfrm>
              <a:off x="6181920" y="1066680"/>
              <a:ext cx="2438280" cy="2438280"/>
              <a:chOff x="6181920" y="1066680"/>
              <a:chExt cx="2438280" cy="2438280"/>
            </a:xfrm>
          </p:grpSpPr>
          <p:sp>
            <p:nvSpPr>
              <p:cNvPr id="378" name=""/>
              <p:cNvSpPr/>
              <p:nvPr/>
            </p:nvSpPr>
            <p:spPr>
              <a:xfrm>
                <a:off x="6181920" y="1066680"/>
                <a:ext cx="2438280" cy="2438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8648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9140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09596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40088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70580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01036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31528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62020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181920" y="137124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181920" y="167616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181920" y="198108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181920" y="228564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181920" y="259056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181920" y="289548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181920" y="320004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6832080" y="1890360"/>
              <a:ext cx="7660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C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953320" y="10666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953320" y="35053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029280" y="1066680"/>
              <a:ext cx="0" cy="243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4600" y="19040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181920" y="838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620200" y="838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181920" y="91440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022160" y="5324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419de"/>
                </a:solidFill>
                <a:latin typeface="Arial"/>
              </a:rPr>
              <a:t>Read Input Data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58200" y="1283400"/>
            <a:ext cx="8410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f ((fp = fopen("akicif.y", "rb")) != NULL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read(Y, sizeof(unsigned char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(MBROWS*16)*(MBCOLS*16), 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f ((fp = fopen("akicif.u", "rb")) != NULL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read(Cr420, sizeof(unsigned char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(MBROWS*8)*(MBCOLS*8), 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f ((fp = fopen("akicif.v", "rb")) != NULL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read(Cr420, sizeof(unsigned char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(MBROWS*8)*(MBCOLS*8), 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8T13:01:36Z</dcterms:created>
  <dc:creator>nachterg</dc:creator>
  <dc:description/>
  <dc:language>en-US</dc:language>
  <cp:lastModifiedBy>Henk Corporaal</cp:lastModifiedBy>
  <dcterms:modified xsi:type="dcterms:W3CDTF">2003-06-05T13:42:47Z</dcterms:modified>
  <cp:revision>17</cp:revision>
  <dc:subject/>
  <dc:title>Data Transfer and Storage Exploration (DTSE) for color conver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imecwww/~nachterg</vt:lpwstr>
  </property>
  <property fmtid="{D5CDD505-2E9C-101B-9397-08002B2CF9AE}" pid="9" name="LinkColor">
    <vt:r8>16711782</vt:r8>
  </property>
  <property fmtid="{D5CDD505-2E9C-101B-9397-08002B2CF9AE}" pid="10" name="MailAddress">
    <vt:lpwstr>nachterg@imec.be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Z:\ycrcb</vt:lpwstr>
  </property>
  <property fmtid="{D5CDD505-2E9C-101B-9397-08002B2CF9AE}" pid="14" name="ScreenSize">
    <vt:r8>4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